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346E-1530-45ED-9865-38D10E48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754B-0D65-427B-B1CB-8FF93B7B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9717-EACF-4E90-B176-166679AC7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7EDC-63F1-4F5B-BD2E-97C74DE9D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B243-4942-4118-A0A2-6F77F1ABB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AD2E-9779-47B3-A34D-3782EFB8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F096-7F51-4C11-A3AF-E5FA0A38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3814-9300-4BDD-8896-B24C0C6E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6808-820C-4659-9914-065681B1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176A-CD00-4726-A2BA-FBC0ABB4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19CB-C510-4E2B-BFFE-C179036B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79B9-1B9D-415D-A306-BD3FC519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2FB7-88C7-455C-A7DF-BA54976C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E84D-81E6-494B-9916-1AE062F2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E88E-5745-4367-A89A-DBF9C107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3D63-BB54-4B3B-8BE6-0D9732B43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73AE-77DC-488B-8DBE-F8FE68A4D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4CF3BB-B4DB-44D0-B5A0-24B12DBB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AC1133-2EB7-4197-8F93-E2FA7A09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A9DE76-44EB-4192-9377-60859D9C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468250-0BC7-4EED-936F-511D25A2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4F2A75-F3C7-4344-89F7-FABE9E4F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AF22-F31D-4EEB-B002-FB23DDDA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44E8AF-D571-4B1A-B886-8A4112AB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32AA44-2E85-4C8B-B898-304D66D1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55FF7A-A9ED-46FC-BC4F-0074BA5A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074B05-15C8-40F3-9F15-69ABF1AB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3BCDB4-D8E0-4DDE-90EA-7D3F4BF9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BB7C8A-4EF5-4D11-8022-93685862B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F7338F-A118-4037-82AE-23FE3551D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B9F691-9BB1-4E91-B752-DF89D34C3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252B6F-92B8-4C96-B659-8038938B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7DA449-838D-4C63-92CD-32563CA6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62C5-C232-467B-A717-B99B8609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011242-7FA7-4910-BE4E-9F6291E3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2A2431-4990-47DE-A533-315353E5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7DE005-3AAF-4837-AA45-BB8AF820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E6A806-0678-40B4-9949-9005F526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F13EE7-E7B1-4094-9C35-8F175C6F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CAD251-60C4-4894-A849-9176AF25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1A396A-DF30-404B-9573-BC322929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E414B2-2BDF-4C30-8DEE-894A431BB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136205-03E6-497D-B50F-D0F944928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3F8C03-AD43-42E1-A449-2B9232D07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395A-99B6-41BD-A2CA-86079C26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3D63C9-8A83-45D7-AC52-632953CC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0C1100-7B99-4806-B965-329A6FA8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40E3E0-C9EA-4E77-9C71-6745C79C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E24AD8-1F96-41A6-99B2-A15C8275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159C10-8175-43A2-87C2-C1EBCBB3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F4D28E-4553-4AD9-8E05-7B1075E2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227C79-8020-4793-9030-CD07A017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235009-E4D8-42C8-A17A-ABBF4AB7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C6927B-9A32-419A-B47A-B630D897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6A2D4A-C3CD-4A11-B8D4-E0B94A697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B7D6-C8B1-4D15-B0F5-1752F7A6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301F35-05EE-4914-89DF-AE61D9EC4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B069C-3F75-45B2-8542-7109910C3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86215-D78E-420C-AD91-90E65B11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08264-D600-412B-8539-9141F8E9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69E6D-0994-4873-A328-01F1616D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D38B7-E5C1-4EE4-8864-0149A89C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62E9F-5F90-441F-9A1F-C97B1EE3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B204C-F518-468B-B65B-596F9482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69E4B-2761-4650-A323-052F5832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CBD04-5A53-4999-9101-58349A8F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61AE-5586-41CB-A79E-9F05064A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3CBCE-20F7-4CF7-9D9D-6CA1901B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0E727-0FB2-4FC7-BBE9-B02FE6076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20617-6F68-4719-9574-63C5FB46E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C26627-5AB1-48AC-BEE8-427FE7AF2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65CCE9-60C1-4FAA-8498-85AE8816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613B8E-7B32-468B-B2AA-7AD284BC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045590-192B-4064-B3B6-C1E57824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821851-2047-4CE9-86BD-C3DF7A4C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7A7E5E-D29B-40BE-BD13-B7512C04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17D1FF-D1D7-414F-869A-82FD297A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E8E1-18C2-426C-AC95-CD185A90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CE7C31-E772-4CEB-8563-724D76AD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450134-038A-4ACF-9A2C-A0FF51B5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F8203B-6783-4622-96E0-BF6DC15F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DE8F3C-0798-4BFE-AF5D-E9A005C46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C1AE16-F810-40AC-8239-8844D9481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19FAD-C62E-4B8F-B81B-8985357A1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4775B-9E09-4F88-9265-237777FE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5EA1A-C9EB-4066-93D0-9A27DAE9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F953A-90C5-4E24-A241-C8F20426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789E7-51A9-4221-B31D-DF97CCA7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DE40-2E46-4CEB-8171-51EB5FDE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3674C-0858-465E-B18D-87A546D2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C0342-D481-4AF1-B654-E7D5B9E6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984CB-3E4B-487E-B170-CABE8CB1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775AD-3757-4EBC-9A86-7228680F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FC566-5D03-44A8-8D29-DE511C7C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E3B31-1FBE-4D85-9CA4-998F65F84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4D471-321B-4FC0-A1CE-0901D4E13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07BA-6FD6-483F-9E6A-86C1440FDA39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1981-FDEA-4C36-B15C-056F7F92E3A8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8944-C848-4782-98F0-5080382E8A43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A45B-B062-41D4-A421-2F0A74FC8EB2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B4F3-EDC3-4FF6-9E26-018A5F53F025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6778-242D-44BA-B269-4D63DE28B224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CC8A-3DCD-4AEC-9581-111BC5FE7858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3CF7-504D-4FC3-B25C-604835288287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FACEBOOK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Gallery Walk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775f55"/>
                </a:solidFill>
                <a:latin typeface="Tw Cen MT"/>
              </a:rPr>
              <a:t>Which organism is the best hunter? Why?</a:t>
            </a:r>
            <a:endParaRPr b="0" lang="en-US" sz="47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775f55"/>
                </a:solidFill>
                <a:latin typeface="Tw Cen MT"/>
              </a:rPr>
              <a:t>Which organism would you want to keep as a pet?  Why?</a:t>
            </a:r>
            <a:endParaRPr b="0" lang="en-US" sz="47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earning Targe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pecta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You will treat the room and the posters like a museum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ands OFF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hisper voic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You will look for 5 different organisms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You may not repeat a page if it fits more than 1 category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cord the name of the organism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cord 2 facts from each page you view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859320" indent="-2145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Wall posts will give you the best information.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859320" indent="-2145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Each fact should be different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6" name="Picture 2" descr="C:\Users\Corey Leet\AppData\Local\Microsoft\Windows\Temporary Internet Files\Content.IE5\5T1OISBM\MC900332188[1].wmf"/>
          <p:cNvPicPr/>
          <p:nvPr/>
        </p:nvPicPr>
        <p:blipFill>
          <a:blip r:embed="rId1"/>
          <a:stretch/>
        </p:blipFill>
        <p:spPr>
          <a:xfrm rot="1042800">
            <a:off x="7065720" y="355680"/>
            <a:ext cx="153180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t up your page like this…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09120" y="159984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African organism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835200" indent="-51444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835200" indent="-51444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arine (ocean) organism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835200" indent="-51444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835200" indent="-51444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onsumer – Carnivore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835200" indent="-51444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835200" indent="-51444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onsumer – Herbivore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835200" indent="-51444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835200" indent="-51444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Local organism (found in U.S.)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835200" indent="-51444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835200" indent="-51444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9" name="Picture 2" descr="C:\Users\Corey Leet\AppData\Local\Microsoft\Windows\Temporary Internet Files\Content.IE5\5T1OISBM\MC900310838[1].wmf"/>
          <p:cNvPicPr/>
          <p:nvPr/>
        </p:nvPicPr>
        <p:blipFill>
          <a:blip r:embed="rId1"/>
          <a:stretch/>
        </p:blipFill>
        <p:spPr>
          <a:xfrm rot="700800">
            <a:off x="6656040" y="1085400"/>
            <a:ext cx="18082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ample…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09120" y="159984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African organism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835200" indent="-51444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835200" indent="-51444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arine (ocean) organism: Annie the Anglerfish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835200" indent="-51444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ive in the ocean depths where it is extremely dar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835200" indent="-51444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acteria make the end of their “pole” glow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onsumer – Carnivore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835200" indent="-51444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835200" indent="-51444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onsumer – Herbivore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835200" indent="-51444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835200" indent="-51444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Local organism (found in U.S.): Zane the Zebra Muss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835200" indent="-51444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nvasive species in Minnesot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835200" indent="-51444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ttach to living and nonliving thing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2" name="Picture 2" descr="C:\Users\Corey Leet\AppData\Local\Microsoft\Windows\Temporary Internet Files\Content.IE5\5T1OISBM\MC900310838[1].wmf"/>
          <p:cNvPicPr/>
          <p:nvPr/>
        </p:nvPicPr>
        <p:blipFill>
          <a:blip r:embed="rId1"/>
          <a:stretch/>
        </p:blipFill>
        <p:spPr>
          <a:xfrm rot="700800">
            <a:off x="6656040" y="1085400"/>
            <a:ext cx="18082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No Exceptions!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w Cen MT"/>
              </a:rPr>
              <a:t>No More Than 2 People at a Poster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5" name="Picture 2" descr="C:\Users\Corey Leet\AppData\Local\Microsoft\Windows\Temporary Internet Files\Content.IE5\703JPMLY\MC900098037[1].wmf"/>
          <p:cNvPicPr/>
          <p:nvPr/>
        </p:nvPicPr>
        <p:blipFill>
          <a:blip r:embed="rId1"/>
          <a:stretch/>
        </p:blipFill>
        <p:spPr>
          <a:xfrm>
            <a:off x="3733920" y="3200400"/>
            <a:ext cx="159516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You do not have to go in order!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flection…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775f55"/>
                </a:solidFill>
                <a:latin typeface="Tw Cen MT"/>
              </a:rPr>
              <a:t>Which organism was the most interesting? Why?</a:t>
            </a:r>
            <a:endParaRPr b="0" lang="en-US" sz="47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02:25:17Z</dcterms:created>
  <dc:creator>Corey Leet</dc:creator>
  <dc:description/>
  <dc:language>en-US</dc:language>
  <cp:lastModifiedBy>Erin Lemke</cp:lastModifiedBy>
  <dcterms:modified xsi:type="dcterms:W3CDTF">2012-05-29T18:42:40Z</dcterms:modified>
  <cp:revision>15</cp:revision>
  <dc:subject/>
  <dc:title>Facebook</dc:title>
</cp:coreProperties>
</file>